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10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ftr" idx="11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 type="sldNum" idx="12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9B9266A8-D4AC-4B19-BF01-5EC86F493D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AE155F-7338-487B-B40C-409CD3674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FF8192D3-F19A-415D-9F8D-67B888E67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BEE508FC-B94F-4579-A442-DB10657CD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7AB54F5-B637-42DD-926A-67E338A177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1B1FECD-9AAE-4C30-B1C1-831B60697B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B8DD02C-C510-43E6-9223-38D245321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C0B12DE9-FFBE-48BB-A0DE-A70CCD65C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5995B00F-ED39-4861-8950-3F6D647E76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2CCAC78D-5865-4D62-9136-DCDAE0BF6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A710E1A2-DCB5-46F3-BE4E-C9C28B0FA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1C892F4C-8DF3-4202-8073-347E0D399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09A3FCFF-6CE4-417D-858E-9C4D8C99D9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E5C9BDAD-3F84-4088-93F4-910936D5DB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D72168D5-371F-43D8-B87F-E74959827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F580E4E-B294-4BC5-A792-95A93A3D5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13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oliennummernplatzhalter 3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fld id="{6A6CEB09-95E2-465C-92EB-45ABD8D094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2D71D-87E9-4A11-B7BD-14D7DBE289E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711F2-7711-47D2-A4C8-42E80FD6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3C43E-A259-487D-A812-18ECB9BD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5CA6-841A-4828-8B51-87A9B45E65F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1AB50-9C3F-4EE2-884E-5A18F6A86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3CC30-679D-425D-A96C-28E50985E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0EFE01-86DC-4188-B2B8-F4AFE2F5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B95BC-C977-4A9C-87BD-E7810AADC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A282D6-8008-4F40-B0BB-723A9BAC8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66026-FEAE-4048-B0BB-24B37536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FEB8DE-49BC-4877-AA7E-B2CECAEB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5885F-0A65-4384-824C-FB2F8155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750319-273D-4AB0-BAAE-BC0544725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D9E5C9-178E-4340-9764-B718EE2B3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97CE5-6FEB-4FBC-BB1B-37205EB3C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024E15-994E-496D-9DAF-CF0941AE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768CE-A57C-4145-AE99-E360B4D5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AAF92-A5FE-4FFA-BEF1-24AFED103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52AE-6309-4C2D-804A-2296299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D7D3-1ACA-49C0-A3AC-290A8AEA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9827-60E8-4407-92CC-3573BBC8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31CC-7169-4F85-9361-4D01B601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8982-15AE-4C68-B475-639BACAE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0E9E-3F3C-49AA-BDA9-4677B20C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9174E-34BA-4A6B-9B5F-B907733EC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6697E-4F30-43AC-8EEC-BCA6CC8FF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B0AF-44B0-477E-9642-F28D57FD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97E8-50F0-4C19-8684-619396626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691A-E5FD-4EC0-94BD-0067E173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0D82-19E6-42A0-9E1D-0F2A3BB3D5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1CEE10-A145-4706-8327-C3DF97EEAD4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A0B047-826B-45B4-9371-988F7C1E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7D02C7-EE1D-4205-87FF-226A7C64B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E4456-44E3-4BAF-AC16-90749D3A6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B89E9-5772-41A4-A76E-757E323F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29A4B3-530D-4BCF-A450-481F7FE4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00394-12BD-47D6-9F9E-72C9C721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ECBE9-D142-4486-91D1-6ACFAC736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6A3029-C712-49F2-BAC9-7E83DF57A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F1B2F6-183C-4A36-A26D-4A017F51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404132-CC3E-4CC5-8E23-057DC1052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72F889-17F6-4933-ACF5-C5F76FAA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088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64560" y="170028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088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64560" y="4007160"/>
            <a:ext cx="26697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64F11-35AC-43E1-BB20-19D2966C68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FCF8-96E3-4DDF-9B95-0737DBF3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000" y="549360"/>
            <a:ext cx="6335640" cy="417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5CECA-0017-4D97-BB6F-E8805EC5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D8378-FB84-43F0-A35C-0E3EE356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05920" y="400716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046E-9E34-46C1-AA9B-B594A6D1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700280"/>
            <a:ext cx="404604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07160"/>
            <a:ext cx="829152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FDB0F-6FB3-4157-8727-D1BEF7B79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8478-3621-4E9C-B26F-30C6A79BF62D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4E1D-F28B-4A1E-9EE9-19C7085ECAD7}" type="slidenum">
              <a:rPr b="0" lang="de-DE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2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9" descr="arbre32"/>
          <p:cNvPicPr/>
          <p:nvPr/>
        </p:nvPicPr>
        <p:blipFill>
          <a:blip r:embed="rId3"/>
          <a:stretch/>
        </p:blipFill>
        <p:spPr>
          <a:xfrm>
            <a:off x="0" y="2724120"/>
            <a:ext cx="5311800" cy="35784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6"/>
          </p:nvPr>
        </p:nvSpPr>
        <p:spPr>
          <a:xfrm>
            <a:off x="6552720" y="64576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7e2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1"/>
          <p:cNvSpPr/>
          <p:nvPr/>
        </p:nvSpPr>
        <p:spPr>
          <a:xfrm>
            <a:off x="0" y="0"/>
            <a:ext cx="9144000" cy="632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7" descr="EENRD_EN"/>
          <p:cNvPicPr/>
          <p:nvPr/>
        </p:nvPicPr>
        <p:blipFill>
          <a:blip r:embed="rId2"/>
          <a:stretch/>
        </p:blipFill>
        <p:spPr>
          <a:xfrm>
            <a:off x="6553080" y="237960"/>
            <a:ext cx="2181240" cy="6764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31"/>
          <p:cNvSpPr/>
          <p:nvPr/>
        </p:nvSpPr>
        <p:spPr>
          <a:xfrm>
            <a:off x="2120760" y="6381720"/>
            <a:ext cx="5046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eting of the Expert Committee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n Evaluation of Rural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46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0064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8"/>
          </p:nvPr>
        </p:nvSpPr>
        <p:spPr>
          <a:xfrm>
            <a:off x="658764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8644B-5CD9-4520-8AFF-09880BD471E2}" type="slidenum">
              <a:rPr b="0" lang="fr-B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dt" idx="9"/>
          </p:nvPr>
        </p:nvSpPr>
        <p:spPr>
          <a:xfrm>
            <a:off x="468360" y="6381360"/>
            <a:ext cx="2209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85840" y="1714320"/>
            <a:ext cx="8501040" cy="35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SYNTHESIS OF THE ANNUAL PROGRESS REPORTS FOR 2008</a:t>
            </a:r>
            <a:br>
              <a:rPr sz="3200"/>
            </a:b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CONCERNING ONGOING EVALUATION</a:t>
            </a:r>
            <a:br>
              <a:rPr sz="3200"/>
            </a:br>
            <a:br>
              <a:rPr sz="3200"/>
            </a:br>
            <a:r>
              <a:rPr b="1" lang="en-GB" sz="2400" spc="-1" strike="noStrike">
                <a:solidFill>
                  <a:srgbClr val="808080"/>
                </a:solidFill>
                <a:latin typeface="Arial"/>
              </a:rPr>
              <a:t>Hannes Wimmer &amp; Margot Van Soetendael</a:t>
            </a:r>
            <a:endParaRPr b="1" lang="en-US" sz="24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76" name="Rectangle 3"/>
          <p:cNvSpPr/>
          <p:nvPr/>
        </p:nvSpPr>
        <p:spPr>
          <a:xfrm>
            <a:off x="928800" y="4714920"/>
            <a:ext cx="745956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F9E6-0838-4F3A-B6F3-738599E72092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sen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ystems for data collec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detail and describe responsi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ain data sources &amp; typ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ata gap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activities to overcome data ga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to provide evaluators with necessary da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5"/>
          <p:cNvSpPr/>
          <p:nvPr/>
        </p:nvSpPr>
        <p:spPr>
          <a:xfrm>
            <a:off x="6629400" y="1523880"/>
            <a:ext cx="2416320" cy="2590920"/>
          </a:xfrm>
          <a:prstGeom prst="wedgeRoundRectCallout">
            <a:avLst>
              <a:gd name="adj1" fmla="val -77333"/>
              <a:gd name="adj2" fmla="val 1825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include a diagram or description of the architecture of the system for data management; information flow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Networking activit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gradually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.g.  focus groups organized by Evaluation Helpdesk;  Helpdesk missions and visits to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APRs (17) report on evaluation-related workshops at national or internationa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w networking activities are reported for MS with regional programmes and in New Member St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s slowly taking up but remains mod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2F1D-A513-4E0C-8A12-88F306917A5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5. Networking activities of people involved in evaluation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4120-4BB3-4068-90C9-442A5D793ED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verview on particip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evant networking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the details of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urpose, outcome and follow-u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, workshops and seminar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references on further document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networking event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capacity build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6629400" y="1600200"/>
            <a:ext cx="2416320" cy="1185840"/>
          </a:xfrm>
          <a:prstGeom prst="wedgeRoundRectCallout">
            <a:avLst>
              <a:gd name="adj1" fmla="val -106356"/>
              <a:gd name="adj2" fmla="val 4746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…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t local, regional, national and EU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6651720" y="3000240"/>
            <a:ext cx="2415960" cy="1643040"/>
          </a:xfrm>
          <a:prstGeom prst="wedgeRoundRectCallout">
            <a:avLst>
              <a:gd name="adj1" fmla="val -97300"/>
              <a:gd name="adj2" fmla="val 1209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are the initiators,  the participants? What are the lessons learned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6651720" y="4815000"/>
            <a:ext cx="2415960" cy="685800"/>
          </a:xfrm>
          <a:prstGeom prst="wedgeRoundRectCallout">
            <a:avLst>
              <a:gd name="adj1" fmla="val -83509"/>
              <a:gd name="adj2" fmla="val -1643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.g. publications, internet-link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70028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difficulties encountered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but also more practical in nature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IT syst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allenges in dealing with simultaneous evaluation tasks, (e.g.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t evaluation 2000-2006 and the preparation of MTE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practical application of the overall CME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ated to fulfilling the requirements of the monitoring t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7402-DDF8-45B0-8F18-4C33066A8EF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6. Difficulties encountered and need for additional work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4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BAF8-070E-407C-9052-349EA7ED09D9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most relevant difficul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experienced in fulfilling ongoing evaluation  activi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lanned and realized solu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for overcoming these difficulties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ifferentia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difficulties to be resolved at programme, Member State or EU level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5"/>
          <p:cNvSpPr/>
          <p:nvPr/>
        </p:nvSpPr>
        <p:spPr>
          <a:xfrm>
            <a:off x="6629400" y="1600200"/>
            <a:ext cx="2416320" cy="1371600"/>
          </a:xfrm>
          <a:prstGeom prst="wedgeRoundRectCallout">
            <a:avLst>
              <a:gd name="adj1" fmla="val -91587"/>
              <a:gd name="adj2" fmla="val 526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Give  references to previous chapters where problems are report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6"/>
          <p:cNvSpPr/>
          <p:nvPr/>
        </p:nvSpPr>
        <p:spPr>
          <a:xfrm>
            <a:off x="6651720" y="3809880"/>
            <a:ext cx="2415960" cy="1371600"/>
          </a:xfrm>
          <a:prstGeom prst="wedgeRoundRectCallout">
            <a:avLst>
              <a:gd name="adj1" fmla="val -80814"/>
              <a:gd name="adj2" fmla="val -25925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Describe the solutions adopted, the involved actors, the lessons lear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57520" y="2214720"/>
            <a:ext cx="378612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....see Annex 1 </a:t>
            </a:r>
            <a:r>
              <a:rPr b="1" lang="en-GB" sz="1800" spc="-1" strike="noStrike" u="sng">
                <a:solidFill>
                  <a:srgbClr val="006463"/>
                </a:solidFill>
                <a:uFillTx/>
                <a:latin typeface="Arial"/>
              </a:rPr>
              <a:t>Explanatory note</a:t>
            </a:r>
            <a:r>
              <a:rPr b="1" lang="en-GB" sz="1800" spc="-1" strike="noStrike">
                <a:solidFill>
                  <a:srgbClr val="006463"/>
                </a:solidFill>
                <a:latin typeface="Arial"/>
              </a:rPr>
              <a:t>, providing clarifications to the MAs for preparing the section on ongoing evaluation in APRs (complementing Guidance Note B of the Handbook on CMEF) </a:t>
            </a:r>
            <a:br>
              <a:rPr sz="2800"/>
            </a:br>
            <a:endParaRPr b="1" lang="en-US" sz="18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1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E5A5-6353-41A5-B1F6-ADE3B5EDE10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Datumsplatzhalter 4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642960" y="785880"/>
            <a:ext cx="4643280" cy="5506920"/>
          </a:xfrm>
          <a:prstGeom prst="rect">
            <a:avLst/>
          </a:prstGeom>
          <a:ln w="0">
            <a:noFill/>
          </a:ln>
        </p:spPr>
      </p:pic>
      <p:sp>
        <p:nvSpPr>
          <p:cNvPr id="254" name="Titel 1"/>
          <p:cNvSpPr/>
          <p:nvPr/>
        </p:nvSpPr>
        <p:spPr>
          <a:xfrm>
            <a:off x="468360" y="71280"/>
            <a:ext cx="633564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For APR 2009 please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547640" y="2637000"/>
            <a:ext cx="6336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463"/>
                </a:solidFill>
                <a:latin typeface="Arial"/>
              </a:rPr>
              <a:t>Thank you for your attention!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56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A3B9-F03F-484F-A95C-84FA68EECFCC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lide Number Placeholder 4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9C80-93E1-41F1-A3E1-91DBA34DE12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468360" y="1413000"/>
            <a:ext cx="8229600" cy="49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463"/>
                </a:solidFill>
                <a:latin typeface="Arial"/>
              </a:rPr>
              <a:t>The Guidance Note B - Evaluation Guide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rcRect l="27572" t="7346" r="11615" b="48359"/>
          <a:stretch/>
        </p:blipFill>
        <p:spPr>
          <a:xfrm>
            <a:off x="457200" y="2060640"/>
            <a:ext cx="5562720" cy="38923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181" name="Oval 5"/>
          <p:cNvSpPr/>
          <p:nvPr/>
        </p:nvSpPr>
        <p:spPr>
          <a:xfrm>
            <a:off x="811080" y="2149560"/>
            <a:ext cx="865440" cy="28872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0" y="0"/>
            <a:ext cx="6500880" cy="1233360"/>
          </a:xfrm>
          <a:prstGeom prst="rect">
            <a:avLst/>
          </a:prstGeom>
          <a:solidFill>
            <a:srgbClr val="00646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Structure and Focus of AP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8"/>
          <p:cNvSpPr/>
          <p:nvPr/>
        </p:nvSpPr>
        <p:spPr>
          <a:xfrm>
            <a:off x="6172200" y="1933560"/>
            <a:ext cx="2825640" cy="1424160"/>
          </a:xfrm>
          <a:prstGeom prst="wedgeRoundRectCallout">
            <a:avLst>
              <a:gd name="adj1" fmla="val -97402"/>
              <a:gd name="adj2" fmla="val 624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7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system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in the national/regional c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9"/>
          <p:cNvSpPr/>
          <p:nvPr/>
        </p:nvSpPr>
        <p:spPr>
          <a:xfrm>
            <a:off x="6172200" y="3814920"/>
            <a:ext cx="2825640" cy="2433600"/>
          </a:xfrm>
          <a:prstGeom prst="wedgeRoundRectCallout">
            <a:avLst>
              <a:gd name="adj1" fmla="val -99495"/>
              <a:gd name="adj2" fmla="val -39041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APR 2008+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: main focus on </a:t>
            </a:r>
            <a:r>
              <a:rPr b="1" lang="en-GB" sz="1800" spc="-1" strike="noStrike">
                <a:solidFill>
                  <a:srgbClr val="808080"/>
                </a:solidFill>
                <a:latin typeface="Arial"/>
              </a:rPr>
              <a:t>evaluation activities undertaken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(incl. capacity building and methodological work), data collection, and difficulties encounte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"/>
          <p:cNvSpPr/>
          <p:nvPr/>
        </p:nvSpPr>
        <p:spPr>
          <a:xfrm>
            <a:off x="533520" y="3429000"/>
            <a:ext cx="4267080" cy="380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1"/>
          <p:cNvSpPr/>
          <p:nvPr/>
        </p:nvSpPr>
        <p:spPr>
          <a:xfrm>
            <a:off x="533520" y="3886200"/>
            <a:ext cx="4267080" cy="15238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I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76520"/>
            <a:ext cx="8291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Overall the sections on ongoing evaluation in the APRS for 2008 vary in their degree of completeness &amp; coverage of indicative top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E77C-7832-4FCF-86FD-12849275921D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rcRect l="0" t="5655" r="0" b="0"/>
          <a:stretch/>
        </p:blipFill>
        <p:spPr>
          <a:xfrm>
            <a:off x="790560" y="2357280"/>
            <a:ext cx="7281720" cy="373716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4102"/>
          <p:cNvSpPr/>
          <p:nvPr/>
        </p:nvSpPr>
        <p:spPr>
          <a:xfrm>
            <a:off x="285840" y="3067200"/>
            <a:ext cx="500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</a:t>
            </a:r>
            <a:r>
              <a:rPr b="0" lang="en-GB" sz="3600" spc="-1" strike="noStrike">
                <a:solidFill>
                  <a:srgbClr val="99cc00"/>
                </a:solidFill>
                <a:latin typeface="Wingdings"/>
                <a:ea typeface="Wingdings"/>
              </a:rPr>
              <a:t></a:t>
            </a:r>
            <a:r>
              <a:rPr b="0" lang="en-GB" sz="3600" spc="-1" strike="noStrike">
                <a:solidFill>
                  <a:srgbClr val="ff0000"/>
                </a:solidFill>
                <a:latin typeface="Wingdings"/>
                <a:ea typeface="Wingdings"/>
              </a:rPr>
              <a:t>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1. The Ongoing Evaluation Sections in APRs - overview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19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5C161-18D8-45E4-ABA8-CE3BC2AB7EDA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the evaluation section of the APR as a tool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demonstrate progres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ongoing evalu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in sufficient detail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ll (!) 5 topics indicated in Guidance </a:t>
            </a:r>
            <a:r>
              <a:rPr b="1" lang="pl-PL" sz="2000" spc="-1" strike="noStrike">
                <a:solidFill>
                  <a:srgbClr val="99cc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ote B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f the CMEF Handboo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077"/>
          <p:cNvSpPr/>
          <p:nvPr/>
        </p:nvSpPr>
        <p:spPr>
          <a:xfrm>
            <a:off x="6629400" y="1143000"/>
            <a:ext cx="2416320" cy="1600200"/>
          </a:xfrm>
          <a:prstGeom prst="wedgeRoundRectCallout">
            <a:avLst>
              <a:gd name="adj1" fmla="val -78777"/>
              <a:gd name="adj2" fmla="val 71430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Use cross-references if information is provided in previous reports or sec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78"/>
          <p:cNvSpPr/>
          <p:nvPr/>
        </p:nvSpPr>
        <p:spPr>
          <a:xfrm>
            <a:off x="6629400" y="3200400"/>
            <a:ext cx="2416320" cy="2895480"/>
          </a:xfrm>
          <a:prstGeom prst="wedgeRoundRectCallout">
            <a:avLst>
              <a:gd name="adj1" fmla="val -89550"/>
              <a:gd name="adj2" fmla="val 6578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ay particular attention to the coverage of the topics ‘evaluation activities’, ‘networking activities’ and ‘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difficultie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encountered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214280"/>
            <a:ext cx="8534520" cy="46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 describ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stablishment of evaluation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e approval of many RD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0% of APR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till cover description of evaluation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going admin.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preparations for tende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5 APRs mention selection procedure for external evalu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outsourcing models for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Steering Group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becoming opera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6 SGs mentioned in 2008 (14 in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vities: input for ToRs; selection of evaluator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5D53-E89E-4519-9A24-C59C05D34F2E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2. The system established to ensure ongoing evaluation 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05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8736A-43B4-4B3D-9876-E9D04C72EBC7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comprehensively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system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evaluation pl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b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administrative arrange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aken for hiring (MTE) evalu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information on coordin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between evaluation stakehol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082"/>
          <p:cNvSpPr/>
          <p:nvPr/>
        </p:nvSpPr>
        <p:spPr>
          <a:xfrm>
            <a:off x="6629400" y="1143000"/>
            <a:ext cx="2416320" cy="857160"/>
          </a:xfrm>
          <a:prstGeom prst="wedgeRoundRectCallout">
            <a:avLst>
              <a:gd name="adj1" fmla="val -104944"/>
              <a:gd name="adj2" fmla="val 12890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Who does what, how and when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084"/>
          <p:cNvSpPr/>
          <p:nvPr/>
        </p:nvSpPr>
        <p:spPr>
          <a:xfrm>
            <a:off x="6651720" y="2357280"/>
            <a:ext cx="2415960" cy="2500560"/>
          </a:xfrm>
          <a:prstGeom prst="wedgeRoundRectCallout">
            <a:avLst>
              <a:gd name="adj1" fmla="val -76018"/>
              <a:gd name="adj2" fmla="val 4837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oR preparation, type of tender, start and closure dates, activities outsourced, information on contracted companies.</a:t>
            </a: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085"/>
          <p:cNvSpPr/>
          <p:nvPr/>
        </p:nvSpPr>
        <p:spPr>
          <a:xfrm>
            <a:off x="6629400" y="4952880"/>
            <a:ext cx="2416320" cy="1219320"/>
          </a:xfrm>
          <a:prstGeom prst="wedgeRoundRectCallout">
            <a:avLst>
              <a:gd name="adj1" fmla="val -75296"/>
              <a:gd name="adj2" fmla="val -54949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Interaction mechanisms with evaluators, Steering Group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reased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coverage of ongoing evaluation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 of APRs report on the review of result/impact indica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% mention the review of intervention log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% describe actions to review evaluation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gress in developing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evaluatio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8 APRs mention work on evaluation methodologies an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me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lessons from ex-post &amp; ex-ant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followed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Thematic studie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ncreasingly used (21 AP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B0D6-BF86-46FB-99A9-AD66B90BED38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3. Ongoing evaluation activities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357120" y="1714680"/>
            <a:ext cx="6120000" cy="4429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7894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Recommendations for the M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port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evaluation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in relation to your evaluation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ve an overview on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preparatory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for the M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utline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specific evaluation methodologies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 stu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fer to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follow-up activiti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on lessons from ex post 2000-06 and ex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11"/>
          <p:cNvSpPr/>
          <p:nvPr/>
        </p:nvSpPr>
        <p:spPr>
          <a:xfrm>
            <a:off x="6629400" y="1643040"/>
            <a:ext cx="2416320" cy="1828800"/>
          </a:xfrm>
          <a:prstGeom prst="wedgeRoundRectCallout">
            <a:avLst>
              <a:gd name="adj1" fmla="val -101601"/>
              <a:gd name="adj2" fmla="val 32162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E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.g. reviews of intervention logic, result and impact indicators, and evaluation ques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12"/>
          <p:cNvSpPr/>
          <p:nvPr/>
        </p:nvSpPr>
        <p:spPr>
          <a:xfrm>
            <a:off x="6629400" y="4143240"/>
            <a:ext cx="2416320" cy="1785960"/>
          </a:xfrm>
          <a:prstGeom prst="wedgeRoundRectCallout">
            <a:avLst>
              <a:gd name="adj1" fmla="val -115986"/>
              <a:gd name="adj2" fmla="val -14083"/>
              <a:gd name="adj3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808080"/>
                </a:solidFill>
                <a:latin typeface="Arial"/>
              </a:rPr>
              <a:t>S</a:t>
            </a: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ecify themes or outcomes of outsourced studies, surveys, case studie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633564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463"/>
                </a:solidFill>
                <a:latin typeface="Arial"/>
              </a:rPr>
              <a:t>4. Systems for data collection and management</a:t>
            </a:r>
            <a:endParaRPr b="1" lang="en-US" sz="3200" spc="-1" strike="noStrike">
              <a:solidFill>
                <a:srgbClr val="006463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700280"/>
            <a:ext cx="85345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collectio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ttracts major attention of A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organisational model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for data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Main data gaps</a:t>
            </a:r>
            <a:r>
              <a:rPr b="0" lang="en-GB" sz="24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late to indicators for environmental measures, GVA-related and non-agricultural activ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Processing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of unharmonized data as challe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tivities to improve </a:t>
            </a:r>
            <a:r>
              <a:rPr b="1" lang="en-GB" sz="2400" spc="-1" strike="noStrike">
                <a:solidFill>
                  <a:srgbClr val="99cc00"/>
                </a:solidFill>
                <a:latin typeface="Arial"/>
              </a:rPr>
              <a:t>data quality &amp; overcome g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liennummernplatzhalter 3"/>
          <p:cNvSpPr/>
          <p:nvPr/>
        </p:nvSpPr>
        <p:spPr>
          <a:xfrm>
            <a:off x="6588000" y="63817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B5C28-A90E-4AEF-9951-BEA1CA403475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0"/>
          <p:cNvSpPr/>
          <p:nvPr/>
        </p:nvSpPr>
        <p:spPr>
          <a:xfrm>
            <a:off x="468360" y="6381720"/>
            <a:ext cx="2209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5 March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23:27Z</dcterms:created>
  <dc:creator>AEIDL</dc:creator>
  <dc:description/>
  <dc:language>en-US</dc:language>
  <cp:lastModifiedBy>Hannes Wimmer</cp:lastModifiedBy>
  <cp:lastPrinted>2008-05-30T14:18:28Z</cp:lastPrinted>
  <dcterms:modified xsi:type="dcterms:W3CDTF">2010-03-15T10:49:27Z</dcterms:modified>
  <cp:revision>370</cp:revision>
  <dc:subject/>
  <dc:title>EENRD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51144767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